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1BD-B5A8-4B8D-B739-094F5F6C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57A-96F2-473D-8997-37ACE2B5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E18-12FA-4E16-9A09-4E0A56E0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61F-1FD6-4F0A-AD95-8CF408B0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A583-6FB7-4055-9DDE-EADE12FC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E7D-B39C-4D03-80BA-CBD4FF5F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799A-47EF-4F0C-8A90-A150144E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F57A-0CBE-49C7-BAF6-756D06FB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0E51-D7C8-45B3-BF30-1AC3776B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C29B-E1C2-4ACF-B233-D826FFA6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B41E-0613-450E-8C5E-349CB70D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4AB-A496-4D30-82AB-DBEB1E24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1A23-A5C3-4918-A8E9-BC3610A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85A5-881F-45BD-A7F8-953AD48D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ABEA-2401-4A20-88B2-62443EBE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846A-A6B9-4ADB-BD56-B46CACF1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86B-E469-4364-819B-97A4A485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FE7-64A2-4010-8603-E0B6EE05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FF7-A676-4B2A-B53B-792600C1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88E-A1DD-4F91-A5E4-602D08F7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FB3-413C-4223-82FB-D831342C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141-962E-46BA-9FB5-1120FAF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9D4-35D4-4DF6-8FA5-07246F2D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A47-5EBD-4484-A714-8CA7BEEA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A770-13F0-43FB-BB6B-499432806B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BA15-8B87-4950-B9C8-B6673EB3F2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RODUCER PRICE INDEX- MANUFACTUR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800600"/>
            <a:ext cx="373392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ebruar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John Bonaventure Mus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enior Statistici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191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INGS FOR OCTOBER 2008 to DEC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in reasons for the decrease in prices of Processed Foo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getable and Animal Oil by 2.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was due to competition in the mark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ed Coffee by 5.6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was due to the changes in World Market pr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ed Tea by 9.8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was due to increased production of Kenya Tea following the favorable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in reasons for the decrease in prices Metal Produ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2.5% decrease in prices of Structural Metal Products and a 1.0% decrease in prices of Basic Iron and Ste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ainly due to the credit crisis and global economic slowdown which has undercut customers in key markets - construction, automobiles and industrial equipmen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280" y="0"/>
          <a:ext cx="8763120" cy="634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0"/>
                    <a:ext cx="876312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553080" y="380880"/>
            <a:ext cx="2133720" cy="838440"/>
          </a:xfrm>
          <a:prstGeom prst="wedgeEllipseCallout">
            <a:avLst>
              <a:gd name="adj1" fmla="val 21430"/>
              <a:gd name="adj2" fmla="val 325379"/>
            </a:avLst>
          </a:prstGeom>
          <a:solidFill>
            <a:srgbClr val="dd85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a prices f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1522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QUARTERLY CHANGES IN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Quarterly Changes- Local Marke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rter to Quarter changes, </a:t>
            </a: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(for goods produced for consumption in the Local Market)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how that overall prices remained relatively s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Verdana"/>
              </a:rPr>
              <a:t>Quarterly Changes- Export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 prices experienced a decrease of 1.4% i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ter of 2008 compared  to the 3.8% increase in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ter of 200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ably, prices of Processed Food decreased by 5.4% mainly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8.5% 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rease in prices of Coff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.3% decrease in Tea pr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 Fish prices rose by 2.2% during the quar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ement Prices fell by 1.4% i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ter of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nth to Month Chang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PPI-M (Local Market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Monthly changes show that producer prices, for goods manufactured for consumption in the Local Market, experienced minimal changes in December 2008 compared to November 2008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PPI-M (Export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th to month changes for goods manufactured for export show that prices also experienced minimal changes during the month of December 2008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Trends in Exchange Rat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1676520"/>
          <a:ext cx="3657600" cy="443376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 M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47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00.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33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3.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45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38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10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6.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86200" y="1523880"/>
          <a:ext cx="5257800" cy="464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5238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NCLUSIO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mbined Producer Price Index for Manufacturing (PPI-M) rose by 18.6% in December 2008 compared to December 2007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rter to quarter changes show that prices remained relatively stable in the 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qter of 2008 compared to the 1.7% increase in 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qter of 2008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eminders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Producer Price Index (PPI), what is it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roducer Price Index is a numb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It is an overall measure of the change in prices received by producers, (in this case manufacturers) for the good manufactured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goods are valued at Basic Prices i.e exclusive of taxes such as VAT, EXCISE DUTY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ces are also called Factory Gate Prices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PIs measure price changes from the perspective of the Produ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How much does a manufacturer receive on average for a unit of good that he sells now compared to what he received previousl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Verdana"/>
              </a:rPr>
              <a:t>THANK-YO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61760" y="251424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Verdana"/>
              </a:rPr>
              <a:t>NEXT PRESS RELEASE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UESDAY 26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MAY 2009, AT 11.00 AM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parison between CPI and PP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1600200"/>
          <a:ext cx="7848720" cy="5345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I-Manufactu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sure of inf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sure of Inf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 data collected from mainly Retailers,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 data collected from Manufacturing Busin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include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exclude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sures prices changes with respect to the consumer; (you and 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sures price changes with respect to the producer/manufactur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I for the previous month can be revi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PPI for the previous quarter can be revi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CPI is monthly and disseminated during the last working day of the mont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PPI is quarterly and disseminated during the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eek of the subsequent quart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ain U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Businesse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n use specific PPIs to compare the growth rate of their own prices with those of the representative index for the industry or the commodity and be able to make a decisio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PIs are commonly used in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ract escal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thus escalating purchase and sales contracts. (For instance if the price of wheat flour increases, bread prices may increas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he Investors/Entrepreneur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n use the PPIs to help them in making a decision as to where to invest (location) and in what commodity/business activit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d as Deflato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2-Month Chang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ombined Producer Price Index for Manufacturing (PPI-M) rose by 18.6% in December 2008 compared to the 9.4% rise in December 2007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November and October 2008, prices rose by 19.5% and 21.8% respectivel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5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nual Changes in th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447920"/>
          <a:ext cx="8076960" cy="48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447920"/>
                    <a:ext cx="8076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Main Contributors to the 18.6% Annual Change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31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was a general rise in prices in all sub sectors. Notable increases were i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cessed Food with 22.4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emicals with 24.5% 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ls Products with 28.8%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Verdana"/>
              </a:rPr>
              <a:t>QUARTERLY COMPARISON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Quarter to Quarter changes- Combined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ces of manufactured goods experienced insignificant change in the 4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Qter of 2008 compared to the 1.7% rise in the 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Qter of 2008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ever the following sectors experienced decreases in price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ed Food by 2.0%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l Products by 0.5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bos@ubos.org                            www.ubos.org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1:02:42Z</dcterms:created>
  <dc:creator>imelda.atai</dc:creator>
  <dc:description/>
  <dc:language>en-US</dc:language>
  <cp:lastModifiedBy>imelda.atai</cp:lastModifiedBy>
  <dcterms:modified xsi:type="dcterms:W3CDTF">2009-02-24T07:15:58Z</dcterms:modified>
  <cp:revision>383</cp:revision>
  <dc:subject/>
  <dc:title>PRODUCER PRICE INDICES</dc:title>
</cp:coreProperties>
</file>